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DA4-D881-4D1A-A40E-5221479A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4AA-5801-414E-A783-C6E5206D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C23-9C5A-4C2D-A00F-FF406886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0AA-183E-42EC-938F-5E0CEC0F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D10-0E2E-437B-931F-9B06DBB3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258-CCC9-4F29-BCD0-60C6BE1B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65F-514F-4AF2-97C2-2783CA37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69A6-8B37-46EF-9767-821FA0C1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8A20-B19E-4A25-A3B1-A69E34C0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4F56-B177-4597-B465-DE39F4F4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CCF0-85EA-4BDE-A18F-A0402C19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EAD-5558-4293-82CD-F507C76B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7185-3FE7-4940-828C-A71FAF149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____          Clase 801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20 de abril del 20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69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 fue el ultimo libro que leís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7030a0"/>
                </a:solidFill>
                <a:latin typeface="Arial"/>
              </a:rPr>
              <a:t>L.O: to review the preterite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y and rewrite in the present te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comí 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bebis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endimos mucho en la escu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no lo vendie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tedes comprendieron, ¿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os verbos Oir, L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60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verb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i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to hear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irregular en el presente y también en el pretérit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verbo Leer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to read)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pretérito tiene la misma terminación que Oí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038480" y="914400"/>
          <a:ext cx="4843440" cy="2773440"/>
        </p:xfrm>
        <a:graphic>
          <a:graphicData uri="http://schemas.openxmlformats.org/drawingml/2006/table">
            <a:tbl>
              <a:tblPr/>
              <a:tblGrid>
                <a:gridCol w="2017800"/>
                <a:gridCol w="1413000"/>
                <a:gridCol w="1412640"/>
              </a:tblGrid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i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ter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038480" y="3997440"/>
          <a:ext cx="4953240" cy="2558880"/>
        </p:xfrm>
        <a:graphic>
          <a:graphicData uri="http://schemas.openxmlformats.org/drawingml/2006/table">
            <a:tbl>
              <a:tblPr/>
              <a:tblGrid>
                <a:gridCol w="1238400"/>
                <a:gridCol w="1158840"/>
                <a:gridCol w="1436760"/>
                <a:gridCol w="1119240"/>
              </a:tblGrid>
              <a:tr h="5461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L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93"/>
          <p:cNvSpPr/>
          <p:nvPr/>
        </p:nvSpPr>
        <p:spPr>
          <a:xfrm>
            <a:off x="6356520" y="1727280"/>
            <a:ext cx="73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4"/>
          <p:cNvSpPr/>
          <p:nvPr/>
        </p:nvSpPr>
        <p:spPr>
          <a:xfrm>
            <a:off x="6365880" y="2117880"/>
            <a:ext cx="759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5"/>
          <p:cNvSpPr/>
          <p:nvPr/>
        </p:nvSpPr>
        <p:spPr>
          <a:xfrm>
            <a:off x="6354000" y="2498760"/>
            <a:ext cx="633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6"/>
          <p:cNvSpPr/>
          <p:nvPr/>
        </p:nvSpPr>
        <p:spPr>
          <a:xfrm>
            <a:off x="6217560" y="2879640"/>
            <a:ext cx="94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7"/>
          <p:cNvSpPr/>
          <p:nvPr/>
        </p:nvSpPr>
        <p:spPr>
          <a:xfrm>
            <a:off x="6325560" y="3260880"/>
            <a:ext cx="801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8"/>
          <p:cNvSpPr/>
          <p:nvPr/>
        </p:nvSpPr>
        <p:spPr>
          <a:xfrm>
            <a:off x="7711200" y="1676520"/>
            <a:ext cx="41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9"/>
          <p:cNvSpPr/>
          <p:nvPr/>
        </p:nvSpPr>
        <p:spPr>
          <a:xfrm>
            <a:off x="7659360" y="2133720"/>
            <a:ext cx="802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0"/>
          <p:cNvSpPr/>
          <p:nvPr/>
        </p:nvSpPr>
        <p:spPr>
          <a:xfrm>
            <a:off x="7649640" y="2514600"/>
            <a:ext cx="639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1"/>
          <p:cNvSpPr/>
          <p:nvPr/>
        </p:nvSpPr>
        <p:spPr>
          <a:xfrm>
            <a:off x="7705080" y="2895480"/>
            <a:ext cx="94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2"/>
          <p:cNvSpPr/>
          <p:nvPr/>
        </p:nvSpPr>
        <p:spPr>
          <a:xfrm>
            <a:off x="7670520" y="3276720"/>
            <a:ext cx="107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3"/>
          <p:cNvSpPr/>
          <p:nvPr/>
        </p:nvSpPr>
        <p:spPr>
          <a:xfrm>
            <a:off x="5469840" y="4556160"/>
            <a:ext cx="48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4"/>
          <p:cNvSpPr/>
          <p:nvPr/>
        </p:nvSpPr>
        <p:spPr>
          <a:xfrm>
            <a:off x="5378040" y="5318280"/>
            <a:ext cx="87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5"/>
          <p:cNvSpPr/>
          <p:nvPr/>
        </p:nvSpPr>
        <p:spPr>
          <a:xfrm>
            <a:off x="5368320" y="5943600"/>
            <a:ext cx="711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y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6"/>
          <p:cNvSpPr/>
          <p:nvPr/>
        </p:nvSpPr>
        <p:spPr>
          <a:xfrm>
            <a:off x="7974720" y="4572000"/>
            <a:ext cx="1020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7"/>
          <p:cNvSpPr/>
          <p:nvPr/>
        </p:nvSpPr>
        <p:spPr>
          <a:xfrm>
            <a:off x="7827480" y="5943600"/>
            <a:ext cx="1145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y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2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2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8.7-8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8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880" y="399240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4:49:35Z</dcterms:created>
  <dc:creator>Helen Zumaeta</dc:creator>
  <dc:description/>
  <dc:language>en-US</dc:language>
  <cp:lastModifiedBy>Helen Zumaeta</cp:lastModifiedBy>
  <dcterms:modified xsi:type="dcterms:W3CDTF">2017-04-20T19:28:27Z</dcterms:modified>
  <cp:revision>25</cp:revision>
  <dc:subject/>
  <dc:title>Me llamo ___________          Clase 8im La fecha es el 18 de diciembre del 2012</dc:title>
</cp:coreProperties>
</file>